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596-FAEF-4F5A-BEB9-BBB13A0C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FF4-5E9D-4BF7-8F2C-B73F8023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40B-EAD9-4EB2-A15A-7D38E8A0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9C2-EA25-40B6-A7EF-D170CF21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D2D3-FC64-48C1-9AF2-1764BD2C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E15D-3E2F-4DD9-AD06-14EF0100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E9DC-5123-4417-8A39-0A1CC2F5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C53E-E206-4828-86D5-D0B3CDA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EF85-7CB6-47A2-BDB4-D7A227C6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2687-FBD6-47E9-BCD2-A5A3A717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0E30-AEC3-488F-A0F4-5ACFB222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56A-19C6-4033-B52B-08680AF7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3AC5-2E91-4D08-A8B2-90816D7E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5BE7-011A-49CD-A533-2F840B90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5AB5-9A41-4F7B-B0A4-C073888A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961A-76A1-465C-A2CE-7E6665A5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2F3E-CB99-43CD-886C-A2B72446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67AF2-AA59-4B2D-92AA-F87F3179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A746F-3153-41F3-8450-3F8F52BD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83E89-89F2-45FA-AA19-7D943564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1AB39-87A1-4C49-848C-690E385B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0F9C7-627F-478F-9FEE-073B8804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7A1-91FB-410A-A65F-D4BA3E51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D819FF-0759-4221-AF58-80595B92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1B0F5-02B1-4127-8E43-FE507CE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9408A-B449-486D-B82C-7D66325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EEEAF-8F84-4DED-88B2-CB438525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1FF43-C298-40B9-9AA3-6A2BBADE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EB68E-B1AC-4CAC-AA30-2F872E74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7399E-D85A-4456-B105-D6B728C6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EBB9-4653-4B6B-8143-084C97A1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21665-74E4-4125-B853-4F96C621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13D5-2C48-4272-8BD0-B629E2A4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2DF-1B13-41B9-9C17-8E84C20F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6F999-B883-47D4-9D36-69954ED0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DBC8-44AA-493C-BD80-C14EC0E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43FD-13E0-4136-8238-EB14C6A8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9F43-EFAF-4EAC-952B-58384D55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5D4B7-C526-4B10-860E-F91C74E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ACAC-E6B8-4B43-B501-4E16A769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666C-1C9C-4142-87B1-AC16EAC9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479C-F34C-47B7-901A-6ECCA2F6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C065-8261-42D2-BE13-877650CA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A56-C672-43B0-8325-A104603E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278-7171-406D-9B07-AAFE1621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BF5-14EE-45AB-BC2D-993B6BE2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497-112C-4B02-815E-5FCA5E0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E86-E516-4D9E-8D39-6611E6FC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EA28-C372-41CD-A603-C631058D7EBE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2DA1-7131-4BE2-BF46-04E5C1F12197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5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873E-CAE9-4C7E-BDFD-0F89D6C44F28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0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C936-E749-4B12-87FD-688D23542944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cus.org/files/images/STOCK%2520-%2520Russia.jpg&amp;imgrefurl=http://www.acus.org/new_atlanticist/russia-well-trade-missiles-defense-shield&amp;usg=__GJEnWrg1wEuMFg-X01NI32rJzP0=&amp;h=320&amp;w=400&amp;sz=20&amp;hl=en&amp;start=29&amp;zoom=1&amp;um=1&amp;itbs=1&amp;tbnid=pwzj4QCxnj_bYM:&amp;tbnh=99&amp;tbnw=124&amp;prev=/images%3Fq%3Drussia%26start%3D20%26um%3D1%26hl%3Den%26sa%3DN%26ndsp%3D20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990360" y="320040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b3da"/>
                </a:solidFill>
                <a:latin typeface="Bradley Hand ITC"/>
                <a:ea typeface="宋体"/>
              </a:rPr>
              <a:t>By: Jennifer Zou, Jason Xiao, and Magdalena Wierzbowsk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  <a:ea typeface="宋体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cc00"/>
                </a:solidFill>
                <a:latin typeface="Harrington"/>
                <a:ea typeface="宋体"/>
              </a:rPr>
              <a:t> </a:t>
            </a:r>
            <a:r>
              <a:rPr b="0" lang="en-US" sz="3600" spc="-1" strike="noStrike">
                <a:solidFill>
                  <a:srgbClr val="e57e3f"/>
                </a:solidFill>
                <a:latin typeface="Harrington"/>
                <a:ea typeface="宋体"/>
              </a:rPr>
              <a:t>S.S Per.1 / Mr.Griffith / Rm.13 </a:t>
            </a:r>
            <a:r>
              <a:rPr b="0" lang="en-US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7200" y="533520"/>
            <a:ext cx="8077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What is Present Day Russia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993366"/>
                </a:solidFill>
                <a:latin typeface="Arial"/>
                <a:ea typeface="宋体"/>
              </a:rPr>
              <a:t>Life Expectancy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ccff3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ccff33"/>
                </a:solidFill>
                <a:latin typeface="Arial"/>
                <a:ea typeface="宋体"/>
              </a:rPr>
              <a:t>Here is a chart showing lowering rates of life expectancy in Russia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836640" y="2438280"/>
            <a:ext cx="70992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2120" y="272520"/>
            <a:ext cx="870120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5818e"/>
                </a:solidFill>
                <a:latin typeface="Arial"/>
                <a:ea typeface="宋体"/>
              </a:rPr>
              <a:t>          </a:t>
            </a:r>
            <a:r>
              <a:rPr b="0" lang="en-US" sz="4400" spc="-1" strike="noStrike">
                <a:solidFill>
                  <a:srgbClr val="45818e"/>
                </a:solidFill>
                <a:latin typeface="Arial"/>
                <a:ea typeface="宋体"/>
              </a:rPr>
              <a:t>Russia's New Gover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2120" y="1646280"/>
            <a:ext cx="86997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d966"/>
                </a:solidFill>
                <a:latin typeface="Arial"/>
                <a:ea typeface="宋体"/>
              </a:rPr>
              <a:t>Russia is still learning on how to act in their new gover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6b26b"/>
                </a:solidFill>
                <a:latin typeface="Arial"/>
                <a:ea typeface="宋体"/>
              </a:rPr>
              <a:t>Before, the Russian leaders could do whatever they wa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6b26b"/>
                </a:solidFill>
                <a:latin typeface="Arial"/>
                <a:ea typeface="宋体"/>
              </a:rPr>
              <a:t>They also got to punish any people who would criticize their desc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e06666"/>
                </a:solidFill>
                <a:latin typeface="Arial"/>
                <a:ea typeface="宋体"/>
              </a:rPr>
              <a:t>Now the leaders must learn to follow the new law and the Russian goverment officials have to adjust to accepting disagreements over the goverment polic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       </a:t>
            </a:r>
            <a:r>
              <a:rPr b="1" lang="en-US" sz="4400" spc="-1" strike="noStrike">
                <a:solidFill>
                  <a:srgbClr val="6fa8dc"/>
                </a:solidFill>
                <a:latin typeface="Arial"/>
                <a:ea typeface="宋体"/>
              </a:rPr>
              <a:t>Ethnic Grou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22120" y="1646280"/>
            <a:ext cx="86997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134f5c"/>
                </a:solidFill>
                <a:latin typeface="Arial"/>
                <a:ea typeface="宋体"/>
              </a:rPr>
              <a:t>Russia has many different ethnic groups.Some groups want to form their own countries seperate from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45f06"/>
                </a:solidFill>
                <a:latin typeface="Arial"/>
                <a:ea typeface="宋体"/>
              </a:rPr>
              <a:t>One of these groups are the Chechens. They live in Chechnya close to the Caspian Sea in the southern part of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The Russian troops have fought the Chechen forces to still keep Chechnya a part of southern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fc5e8"/>
                </a:solidFill>
                <a:latin typeface="Arial"/>
                <a:ea typeface="宋体"/>
              </a:rPr>
              <a:t>                  </a:t>
            </a:r>
            <a:r>
              <a:rPr b="1" lang="en-US" sz="4400" spc="-1" strike="noStrike">
                <a:solidFill>
                  <a:srgbClr val="6fa8dc"/>
                </a:solidFill>
                <a:latin typeface="Arial"/>
                <a:ea typeface="宋体"/>
              </a:rPr>
              <a:t>Ethnic Grou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1760" y="1279440"/>
            <a:ext cx="8701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 </a:t>
            </a:r>
            <a:r>
              <a:rPr b="0" lang="en-US" sz="2800" spc="-1" strike="noStrike">
                <a:solidFill>
                  <a:srgbClr val="b6d7a8"/>
                </a:solidFill>
                <a:latin typeface="Arial"/>
                <a:ea typeface="宋体"/>
              </a:rPr>
              <a:t>Here is a map showing some different ethnic groups in Russia including Chechnya(Chechen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6d7a8"/>
                </a:solidFill>
                <a:latin typeface="Arial"/>
                <a:ea typeface="宋体"/>
              </a:rPr>
              <a:t>               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6d7a8"/>
                </a:solidFill>
                <a:latin typeface="Arial"/>
                <a:ea typeface="宋体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1211400" y="2057400"/>
            <a:ext cx="5624280" cy="463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61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  <a:ea typeface="宋体"/>
              </a:rPr>
              <a:t>Good Things About Present Russi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9966ff"/>
                </a:solidFill>
                <a:latin typeface="Arial"/>
                <a:ea typeface="宋体"/>
              </a:rPr>
              <a:t>Russia has followed the United States in their government and economy style. Now they have adopted a free market economy and a democracy. People now in Russia can vote for their leader and put prices on products free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66ffcc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66ffcc"/>
                </a:solidFill>
                <a:latin typeface="Arial"/>
                <a:ea typeface="宋体"/>
              </a:rPr>
              <a:t>Russia is starting their first suburbs around cities. This idea may give people more space, but still be close to c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7162920" y="5433840"/>
            <a:ext cx="1523880" cy="14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Monotype Corsiva"/>
                <a:ea typeface="宋体"/>
              </a:rPr>
              <a:t>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Monotype Corsiva"/>
                <a:ea typeface="宋体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Russia is now a free market economy and a democrac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Russia has a better chance at winning a war because of its wint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Russians get free health care and Russian made medicin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It has great food there, that is inexpensive like squid salad, crab meat sala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Jobs aren’t very hard to fin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You can have a very good time in Russia from movies, clubs, theaters, operas, concerts, exhibitions, festivals, and fai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Kunstler Script"/>
                <a:ea typeface="宋体"/>
              </a:rPr>
              <a:t>            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  <a:ea typeface="宋体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Brought to you b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Magdalena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     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Jason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and Jennif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a4849"/>
                </a:solidFill>
                <a:latin typeface="Papyrus"/>
                <a:ea typeface="宋体"/>
              </a:rPr>
              <a:t>Free Market Economy /Free Enterprise System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  <a:ea typeface="宋体"/>
              </a:rPr>
              <a:t>People can open busines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  <a:ea typeface="宋体"/>
              </a:rPr>
              <a:t>Chose their own care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  <a:ea typeface="宋体"/>
              </a:rPr>
              <a:t>Workers can lose their jobs when a business decli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Snap ITC"/>
                <a:ea typeface="宋体"/>
              </a:rPr>
              <a:t>Governme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  <a:ea typeface="宋体"/>
              </a:rPr>
              <a:t>Prices have ris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  <a:ea typeface="宋体"/>
              </a:rPr>
              <a:t>Government built nuclear power plants which can cause disastrous consequences if uncontrol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  <a:ea typeface="宋体"/>
              </a:rPr>
              <a:t>Government no longer sets prices for foods or other goo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  <a:ea typeface="宋体"/>
              </a:rPr>
              <a:t>Federal republic/ democrac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Ravie"/>
                <a:ea typeface="宋体"/>
              </a:rPr>
              <a:t>Government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  <a:ea typeface="宋体"/>
              </a:rPr>
              <a:t>Power is divided between national and state government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  <a:ea typeface="宋体"/>
              </a:rPr>
              <a:t>A President leads this na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  <a:ea typeface="宋体"/>
              </a:rPr>
              <a:t>Russian president can issue orders that become laws even if they aren’t passed by the legislatu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  <a:ea typeface="宋体"/>
              </a:rPr>
              <a:t>Officials have to learn how to accept disagreements over government politic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Wide Latin"/>
                <a:ea typeface="宋体"/>
              </a:rPr>
              <a:t>Other Fact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  <a:ea typeface="宋体"/>
              </a:rPr>
              <a:t>Home to multiple different ethnic groups –some want to form their own, independent countries such as Chechny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  <a:ea typeface="宋体"/>
              </a:rPr>
              <a:t>About 75% of Russia’s people live in cit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  <a:ea typeface="宋体"/>
              </a:rPr>
              <a:t>Large number of people living in poverty have to wait in line for food by government agenc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  <a:ea typeface="宋体"/>
              </a:rPr>
              <a:t>Urban, or city, areas are large and modern with stone or concrete buildings &amp; wide streets</a:t>
            </a:r>
            <a:r>
              <a:rPr b="0" lang="en-US" sz="2800" spc="-1" strike="noStrike">
                <a:solidFill>
                  <a:srgbClr val="fe1f08"/>
                </a:solidFill>
                <a:latin typeface="Curlz MT"/>
                <a:ea typeface="宋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tencil"/>
                <a:ea typeface="宋体"/>
              </a:rPr>
              <a:t>Facts continued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Pollution is made by dirty smoke and dumped pois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Air pollution  causes many people to suffer from lung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The life expectancy is shorter because of cance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90% of the people speak Russian languag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Many prosperous people live in Moscow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00"/>
                </a:solidFill>
                <a:latin typeface="Arial"/>
                <a:ea typeface="宋体"/>
              </a:rPr>
              <a:t>Environmental Issues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Arial"/>
                <a:ea typeface="宋体"/>
              </a:rPr>
              <a:t>Russia’s old communist government didn’t do much for the government. They gave out lots of dirty smoke and dumped poisons into rivers and lak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66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  <a:ea typeface="宋体"/>
              </a:rPr>
              <a:t>They also polluted the air, water, and land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Arial"/>
                <a:ea typeface="宋体"/>
              </a:rPr>
              <a:t>Now Russia is using nuclear energy plants. Even though they don’t pollute the air, they leave dangerous by-product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4" dur="20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6" dur="20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8" dur="20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90" dur="2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66ff"/>
                </a:solidFill>
                <a:latin typeface="Arial"/>
                <a:ea typeface="宋体"/>
              </a:rPr>
              <a:t>Environmental Issues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383b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9383b3"/>
                </a:solidFill>
                <a:latin typeface="Arial"/>
                <a:ea typeface="宋体"/>
              </a:rPr>
              <a:t>Here are some pictures showing these environmental problems in Russi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0080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  <a:ea typeface="宋体"/>
              </a:rPr>
              <a:t>These are factories giv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宋体"/>
              </a:rPr>
              <a:t>out gas (right). And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宋体"/>
              </a:rPr>
              <a:t>(left) are nuclear power pla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4379760" y="3086280"/>
            <a:ext cx="4764240" cy="317340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27672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6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6699"/>
                </a:solidFill>
                <a:latin typeface="Arial"/>
                <a:ea typeface="宋体"/>
              </a:rPr>
              <a:t>Life Expectancy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Russia' old economy polluted the air making it less healthy. Russia’s air pollution also has caused rising cancer and falling life expectancy in the count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Now most people are suffering from lung diseases. This shows that Russia’s population is becoming less healt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total population: 66.39 year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male: 59.91 year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female: 73.27 years (2004 est.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0:35Z</dcterms:created>
  <dc:creator> </dc:creator>
  <dc:description/>
  <dc:language>en-US</dc:language>
  <cp:lastModifiedBy>jimmy</cp:lastModifiedBy>
  <dcterms:modified xsi:type="dcterms:W3CDTF">2010-12-21T00:17:46Z</dcterms:modified>
  <cp:revision>12</cp:revision>
  <dc:subject/>
  <dc:title>Present Day Russia</dc:title>
</cp:coreProperties>
</file>